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1303A98D-38F5-4585-9A9A-C9AECCD6F5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894600" y="752760"/>
            <a:ext cx="4953240" cy="37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81000" y="382680"/>
            <a:ext cx="4907160" cy="3679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2003  TTÜ   T.Tammet   loeng 2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D414F7F2-B0F0-45EC-B33F-8DD95BEB7C36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tu.ee/it/" TargetMode="External"/><Relationship Id="rId2" Type="http://schemas.openxmlformats.org/officeDocument/2006/relationships/hyperlink" Target="http://www.microsoft.com/xlang" TargetMode="External"/><Relationship Id="rId3" Type="http://schemas.openxmlformats.org/officeDocument/2006/relationships/hyperlink" Target="http://www.ttu.ee/it/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tu.ee/it/index.html" TargetMode="External"/><Relationship Id="rId2" Type="http://schemas.openxmlformats.org/officeDocument/2006/relationships/hyperlink" Target="ftp://ftp.is.co.za/rfc/rfc1808.txt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o.commerce.net/" TargetMode="External"/><Relationship Id="rId2" Type="http://schemas.openxmlformats.org/officeDocument/2006/relationships/hyperlink" Target="http://eco.commerce.net/" TargetMode="External"/><Relationship Id="rId3" Type="http://schemas.openxmlformats.org/officeDocument/2006/relationships/hyperlink" Target="http://www.commerceone.com/xml/" TargetMode="External"/><Relationship Id="rId4" Type="http://schemas.openxmlformats.org/officeDocument/2006/relationships/hyperlink" Target="http://www.biztalk.org/" TargetMode="External"/><Relationship Id="rId5" Type="http://schemas.openxmlformats.org/officeDocument/2006/relationships/hyperlink" Target="http://www.biztalk.org/" TargetMode="External"/><Relationship Id="rId6" Type="http://schemas.openxmlformats.org/officeDocument/2006/relationships/hyperlink" Target="http://www.cxml.org/" TargetMode="External"/><Relationship Id="rId7" Type="http://schemas.openxmlformats.org/officeDocument/2006/relationships/hyperlink" Target="http://www.rosettanet.org/" TargetMode="External"/><Relationship Id="rId8" Type="http://schemas.openxmlformats.org/officeDocument/2006/relationships/hyperlink" Target="http://www.fpml.org/" TargetMode="External"/><Relationship Id="rId9" Type="http://schemas.openxmlformats.org/officeDocument/2006/relationships/hyperlink" Target="http://www.openbuy.org/obi/" TargetMode="External"/><Relationship Id="rId10" Type="http://schemas.openxmlformats.org/officeDocument/2006/relationships/hyperlink" Target="http://www.visa.com/ut/dnld/spec.ghtml" TargetMode="External"/><Relationship Id="rId11" Type="http://schemas.openxmlformats.org/officeDocument/2006/relationships/hyperlink" Target="http://www.code360.com/" TargetMode="External"/><Relationship Id="rId12" Type="http://schemas.openxmlformats.org/officeDocument/2006/relationships/hyperlink" Target="http://www.bluestone.com/" TargetMode="External"/><Relationship Id="rId13" Type="http://schemas.openxmlformats.org/officeDocument/2006/relationships/hyperlink" Target="http://www.bluestone.com/" TargetMode="External"/><Relationship Id="rId14" Type="http://schemas.openxmlformats.org/officeDocument/2006/relationships/hyperlink" Target="http://www.webmethods.com/" TargetMode="External"/><Relationship Id="rId1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1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XML baaskursus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ML süntaks, tähestikud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imeruumid (namespaces).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DTD ja XML schema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tühikud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ärgmised sümbolid on nn whitespac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 tühik,                         ascii hexa kood   20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b sümbol,                          ascii hexa kood     9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alõpp (linefeed)                ascii hexa kood     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avahe (carriage return)    ascii hexa kood    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ML parser asendab (standardi järgi)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rriage return / linefeed paari (windowsi failide reavahetus)    ühe linefeed sümboliga (unixi reavahetu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iku carriage return sümboli linefeed sümbolig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00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tähed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41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ümbolid  &lt;   ja  &amp;   on andmetekstis keelatud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korrektne:  &lt;avaldis&gt;2&lt;3&lt;/avaldi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korrektne:  &lt;avaldis&gt;A&amp;B&lt;/avaldi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korrektne:  &lt;avaldis sisu1=”A&amp;B” sisu2=”A&lt;B”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nde sümbolite asemel tuleb kasutad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ritähistusi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entities)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   asemel   &amp;lt;        näiteks  &lt;avaldis f=”2&amp;lt;6”&gt;2&amp;lt;3&lt;/avaldi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amp;   asemel   &amp;amp;   näiteks   &lt;avaldis&gt;A&amp;amp;B&lt;/avaldi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gmised eritähistused on alati kasutatavad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amp;lt;       tähistab     &l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amp;gt;      tähistab     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amp;amp;  tähistab     &amp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amp;apos;  tähistab     “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amp;quot;  tähistab      '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05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CDATA variant tekstiandmetel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ekstiandmeid saab esitada spetsiaalse CDATA süntaksi abi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&lt;![CDATA[  Tanel Tammet]]&gt;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täpselt sama, kui harili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   Tanel Tammet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DATA süntaksiga antud teks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õib sisaldada mistahes sümbole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sh &lt; ja &amp;, kuid ei või sisaldada ]]&gt;, näiteks ni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script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[CDATA[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unction match(a,b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{ if (a &lt; b &amp;&amp; a &lt; 0) then return 1 else return 0; }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]]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script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10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kommentaarid jm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66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ommentaaride jaoks on erisüntak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 Siin on kommentaari tekst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Ning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n &lt; &amp; 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-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öötlemiskäskude (processing instruction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aoks on kommentaari moodi erisüntak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kask1   Siin on tootluskask 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miskikorraldus Ning 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n &lt; ka &amp;      ?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Kommentaar ei tohi sisaldada -- ja töötluskäsk 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Töötluskäsus peab kohe ? järel olema käsunimi (a la tag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15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xml spetsiaalkäsk ja tähestik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45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 fail võib alata (ja soovitavalt algab!) käsug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 version=”1.0” 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lle käsu sees saab määrata faili tähestiku (encoding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 version=”1.0” encoding="ISO-8859-1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ncoding on tähestiku nimi ISO standardi järg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SO-8859-1 on harilikuim euroopas kasutatav tähestik, nn ISO-LATIN-1. Sisaldab kõiki meie täpitähti peale zh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HTML-s tuntud &amp;auml; ä jaoks, &amp;otilde; õ jaoks jne ei ole XMLs defineeritud: neist ei saa parser aru ja annab ve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encoding pole antud, siis eeldab XML parser, et kasutataks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TF-8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odeeringut. Sel juhul annavad harilikud ISO-8859-1 täpitähed kas parseri vea või asendatakse nad valest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20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 ”encoding”u näite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35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e XML fail on OK (kuid mittesoovitav, pole ?xml käsku)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Jaan Vask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e XML fail annab vea (täpitäht, pole encodingut!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Jüri Vask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ee XML fail on korrektne (NB! täpitäht ka taginime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 version=”1.0” encoding="ISO-8859-1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üldinfo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Jüri Sõmerpalu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üldinfo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Kasuta igal võimalikul juhul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 version=”1.0” encoding="ISO-8859-1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25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 üldinfot tähestik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ud kodeeringud: üks täht on üks bai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bait (kaheksa bitti) sisaldab numbrit vahemikus 0-255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CII kodeering määrab numbritele 0-127 vastavad tähed ja on tarkvara puhul üldkasutatav igal pool, igas keel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pitähti ja muid mitte-inglise tähti ASCII ei sisalda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30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22320" y="2857680"/>
            <a:ext cx="5456520" cy="246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 üldinfot tähestik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13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arilikud kodeeringud: üks täht on üks bai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ks bait (kaheksa bitti) sisaldab numbrit vahemikus 0-255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CII kodeering määrab numbritele 0-127 vastavad tähed ja on üldkasutatav igal pool, igas keel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pitähti ja muid mitte-inglise tähti ASCII ei sisalda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pitähed ja muud mitte-inglise tähed (vene, läti, ...) kodeeritakse harilikult numbritega vahemikus 128-255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ne/läti jne ISO kodeeringus on eesti täpitähed teiste numbritega kui eesti harilikus ISO-8859-1 kodeeringu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ne keele jaoks on terve hulk erinevaid kodeerimisviise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TF-8 kodeeringus on üks täht üks (harilikult) kuni kuus bait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SCII tähed 0-127 on üks bait, muutmat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esti täpitähed on kaks baiti: ISO kodeeringus paistavad nad kui Ãµ Ã¼ Ã¤ j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ud tähed (hiina hieroglüüfid jne) võivad olla kuni kuus bait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36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 veel tähestike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9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5080" indent="-325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le UTF-8 ja UTF-16 kasutatakse ka UTF-32: viimases on iga täht neli baiti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UNICO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7120" indent="-268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evinud üldnimetus (ja standard) visuaalsete tähtede (glyphs) kodeerimiseks numbritega. Igal glyphil oma numb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7120" indent="-268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code n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mbrid on vahemikus 0...4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294967296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(4 baiti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7120" indent="-268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nicodes on kodeeritud enamik kasutatavaid tähti maailmas (ladina, vene, araabia, hiina, jaapani jne), kuid mitte kõik ürgtähed j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7120" indent="-268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CS2 on UNICODE põhialamhulk: numbrid 0..65536 (BMP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7120" indent="-268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CS4 on terve UNICOD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7120" indent="-268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TF-8, UTF-16 ja UTF-32 on levinuimad viisid UNICODE järgi praktiliseks kodeerimiseks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7120" indent="-268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TF-8 idee on ASCII sümbolite 0-127 hoidmine (endiselt) ühe baidina, ning teisi UNICODE sümboleid kodeeritakse pikemal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17120" indent="-268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TF-16 idee on praktiliselt kõigi levinud UNICODE sümbolite hoidmine kahe baidina, mis lihtsustab tekstitöötlust, kuid võtab rohkem ruumi. Variandid: UTF-16, UTF-16BE, UTF-16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41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 XML parserid ja tähestik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9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TF-16 kodeeringus on iga täht (sh ASCII 0-127) kaks bait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i ASCII tähed kui eesti täpitähed on kaks bait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ist kodeeringut kasutavad näiteks Java stringi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isual Basic ja Windows NT/2000/XP kasutavad ka UCS2-t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 stringid, vastupidi, kasutavad ühe baidi kodeeringu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deeringute teisendamine ei ole triviaalne, selleks kasutatakse enamasti spetsiaalseid teeke. Näiteks C puhul iconv funktsiooni. Vaata käsuga iconv --list teegi poolt tuntud kodeeringute nimesi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parserid peavad standardi järgi lugema nii UTF-8 kui UTF-16 kodeeringut. Võib anda näiteks .... encoding=”UTF-16”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eglina loevad nad paljusid kodeeringuid, esmajoones ISO-8859-1, kui harilikku euroopas kasutatavat kodeeringu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semiselt hoiavad parserid teksti enamasti kas UTF-8 (C keele puhul) või UTF-16 (Java keele puhul) kodeeringus ning programmeerija peab parseri antud tulemuse enamasti ise konverteerima soovitud kodeeringusse, näiteks ISO-8859-1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46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süntak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3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elmises loengus vaadatud põhialustele lisanduvad mõned nüansi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eldetuletuseks andmete esitamise kohta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dmed tagide vah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õllevabrik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ühja tagi saab lühendada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nlaos/&gt;  on samaväärne kui    &lt;onlaos&gt;&lt;/onlao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dmed võivad olla ka tagi atribuutid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 valuuta=”EEK”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gide vahel võib olla palju samanimelisi tag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laos&gt;&lt;toode&gt;1&lt;/toode&gt;&lt;toode&gt;2&lt;/toode&gt;&lt;/lao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gal tagil võib olla mingi nimega atribuute vaid ü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l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&lt;hind valuuta=”EEK” valuuta=”EUR”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Õig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&lt;hind valuuta=”EEK” kaibemaks=”18”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56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ruumid (namespaces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formaadi üks põhieelis on see, e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 kahel erineval keelel A ja B on mõlemal XML süntaks, sii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aab A keelse teksti sisse panna teksti keeles B, ja tulemus on korrektne XML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juhtub aga siis, kui nii keeles A kui B on sama tag, aga eri tähendusega? Siis me ei saa kokkupandud tekstis aru, kumb tähendus võtt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51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270080" y="3468600"/>
            <a:ext cx="2771640" cy="2687760"/>
          </a:xfrm>
          <a:prstGeom prst="roundRect">
            <a:avLst>
              <a:gd name="adj" fmla="val 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16280" y="3444840"/>
            <a:ext cx="3542040" cy="2687760"/>
          </a:xfrm>
          <a:prstGeom prst="roundRect">
            <a:avLst>
              <a:gd name="adj" fmla="val 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4120" y="3760920"/>
            <a:ext cx="3528720" cy="1851120"/>
          </a:xfrm>
          <a:prstGeom prst="roundRect">
            <a:avLst>
              <a:gd name="adj" fmla="val 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d&gt;Apples&lt;/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d&gt;Bananas&lt;/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76760" y="3724200"/>
            <a:ext cx="2958120" cy="1863360"/>
          </a:xfrm>
          <a:prstGeom prst="roundRect">
            <a:avLst>
              <a:gd name="adj" fmla="val 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&lt;t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Afric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ffe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width&gt;80&lt;/widt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length&gt;120&lt;/lengt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ruumid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2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ahenduse idee: paneme iga tagi ette kooloniga eraldatult keele nim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tame vasakul tabelis (HTML) keele nimeks h ja paremal (furniture) f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üüd on vasakul ja paremal erinevad tagid, konflikti pol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60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147680" y="2430360"/>
            <a:ext cx="3102120" cy="2698920"/>
          </a:xfrm>
          <a:prstGeom prst="roundRect">
            <a:avLst>
              <a:gd name="adj" fmla="val 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03680" y="2430360"/>
            <a:ext cx="3541680" cy="2687760"/>
          </a:xfrm>
          <a:prstGeom prst="roundRect">
            <a:avLst>
              <a:gd name="adj" fmla="val 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2800" y="2673360"/>
            <a:ext cx="3973680" cy="1851120"/>
          </a:xfrm>
          <a:prstGeom prst="roundRect">
            <a:avLst>
              <a:gd name="adj" fmla="val 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h:t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h: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h:td&gt;Apples&lt;/h: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h:td&gt;Bananas&lt;/h: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/h: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/h:t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0000" y="2673360"/>
            <a:ext cx="3275280" cy="1863360"/>
          </a:xfrm>
          <a:prstGeom prst="roundRect">
            <a:avLst>
              <a:gd name="adj" fmla="val 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&lt;f:t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f:name&gt;Afric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ffe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f: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f:width&gt;80&lt;/f:widt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f:length&gt;120&lt;/f:lengt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f:t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ruumid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81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uidas aga tagada, et kaks eri keelt ei võtaks sama nime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dee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keelte nimed (soovitavalt) hästi pika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me nimena URL-i (a la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http://www.ttu.ee/it/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keel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saab keele inmloetava kirjelduse panna selle URLi peal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on igal keeletegijal mõttekas kasutada URL-i, kuhu ta saab oma kirjelduse riputa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, kui ma teeksin oma keele nimega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2"/>
              </a:rPr>
              <a:t>http://www.microsoft.com/xlan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siis vaevalt mul õnnestub sellele URL-ile mingit teksti riputada!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iis on vähe tõenäoline, et eri keelte nimed kattuva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robleem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pikka keele nime on ebameeldiv iga tagi ette kirjutada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3"/>
              </a:rPr>
              <a:t>http://www.ttu.ee/it/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xke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table&gt; oleks halb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ahendus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kasutame tagi alguses nime lühendit, mis on XML tekstis varem defineeritu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69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ruumid: standardi kasutamise 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68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nimeruumide standard näeb ett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 tagi ette võib olla kirjutatud, mis keeles ta on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eelelyhend:tag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me lisamine tagile ei ole kohustuslik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te nimedeks kasutatakse URI-sid (URL-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-281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ühendite definitsioonid on spetsiaalatribuudid tagidel kujug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ns:lyhend=”taisnimi”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?&gt;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 xmlns:rdf="http://www.w3.org/1999/02/22-rdf-syntax-ns#"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dc="http://purl.org/dc/elements/1.1/"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ex="http://www.example.org/terms/"&gt;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http://www.example.org/index.html"&gt;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creation-date&gt;August 16, 1999&lt;/ex:creation-date&gt;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:language&gt;English&lt;/ex:language&gt;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c:creator rdf:resource="http://www.example.org/staffid/85740"/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8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80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60440"/>
                <a:tab algn="l" pos="917640"/>
                <a:tab algn="l" pos="1374840"/>
                <a:tab algn="l" pos="1832040"/>
                <a:tab algn="l" pos="2289240"/>
                <a:tab algn="l" pos="2746440"/>
                <a:tab algn="l" pos="3203640"/>
                <a:tab algn="l" pos="3660840"/>
                <a:tab algn="l" pos="4118040"/>
                <a:tab algn="l" pos="4575240"/>
                <a:tab algn="l" pos="50324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14400" y="302760"/>
            <a:ext cx="7767720" cy="303480"/>
            <a:chOff x="914400" y="302760"/>
            <a:chExt cx="7767720" cy="303480"/>
          </a:xfrm>
        </p:grpSpPr>
        <p:sp>
          <p:nvSpPr>
            <p:cNvPr id="174" name=""/>
            <p:cNvSpPr/>
            <p:nvPr/>
          </p:nvSpPr>
          <p:spPr>
            <a:xfrm>
              <a:off x="914400" y="603360"/>
              <a:ext cx="77659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680320" y="302760"/>
              <a:ext cx="180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ruumid: kehtivuspiirkond ja defaul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1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imedefinitsiooni kehtivuspiirkond tekstis on piiratud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ngis tagis xmlns abil defineeritud keelenime lühend kehtib nii selle tagi enda jaoks (vt eelmist näidet) kui kõigi tema sees (kuitahes sügaval) olevate tagide ja atribuutide jao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ugavuse jaoks näeb standard ett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ikimisi nimeruum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defineerimise võimaluse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lma lühendit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&lt;table xmlns=”http://www.ttu.ee/it/xkeel”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African Coffee Table&lt;/na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width&gt;80&lt;/width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length&gt;120&lt;/length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peale tagil ja kõigil sisemistel tagidel on automaatselt see nimeruum, kui neile pole eraldi antud mõnda teist nimeruum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tribuutidele peab nimeruumi aga siiski andma kooloniga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79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imeruumid: URI, URL ja URN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RI (Uniform Resource Identifier) on globaalne, unikaalne nimi, mis võib olla kas URL või URN (mõlemad on URI-d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RL (uniform resource locator) on kuju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yhendusprotokoll:masin/asukohtmasina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http://www.ttu.ee/it/index.htm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Bitstream Vera Sans"/>
                <a:hlinkClick r:id="rId2"/>
              </a:rPr>
              <a:t>ftp://ftp.is.co.za/rfc/rfc1808.tx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mailto:tammet@staff.ttu.e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RN (uniform resource name) on unikaalne nimi kuju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rn:nim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urn:ttu.e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84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TD ja XML schema: mis ja miks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1840" indent="-321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süntaks lubab kasutada mistahes tage ja atribuute, igalpool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-321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Mõnes XML süntaksiga keel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näiteks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920" indent="-2664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imüüja poolt antav hinnainfo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920" indent="-2664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süntaksiga HTML (xhtml)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920" indent="-2664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õne programmi konfifa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920" indent="-2664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 jn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lubatud ainult teatud hulk tage ja atribuute, ning ainul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atud kohtades: st, keele süntaks o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lamhulk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XML-s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-321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isel juhul on tihti kasulik kirjutad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keele grammatik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, st reeglid süntaksile, esmajoones: mis tagid/atribuudid kus lubatu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-321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TD ja XML schema on kaks erinevat viisi taolise grammatika kirjapanekuks XML süntaksiga keeltel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1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89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süntaksiga keeli on palju, näitek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2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78000"/>
              </a:lnSpc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ommerceN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49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eCo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2"/>
              </a:rPr>
              <a:t> Framework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XML specs. to support interoperability among e-businesses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68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3"/>
              </a:rPr>
              <a:t>Commerce O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Common Business Library (CBL): set of business components, docs. In DTD, XDR, SOX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4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68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5"/>
              </a:rPr>
              <a:t>BizTalk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Microsoft spec. based on XML schemas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68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6"/>
              </a:rPr>
              <a:t>cXML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(Commerce XML) -- tag-sets for e-procurement into BizTalk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88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lectronic Data Interchange (EDI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68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7"/>
              </a:rPr>
              <a:t>RosettaNe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Common format for online ordering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68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8"/>
              </a:rPr>
              <a:t>FpM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(Financial products Markup Language): sharing of financial data (interest rate &amp; foreign exchange products)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88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pen Buying on the Internet (OBI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68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9"/>
              </a:rPr>
              <a:t>OBI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high volume b2b purchasing transactions over the Internet (Office Depot, Lockheed, barnesandnoble, AX...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88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-commerce and XML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88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10"/>
              </a:rPr>
              <a:t>VISA Invoic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The Visa Extensible Markup Language (XML) Invoice Specification provides a comprehensive list of data elements contained in most invoices, including: </a:t>
            </a:r>
            <a:r>
              <a:rPr b="1" lang="en-GB" sz="1000" spc="-1" strike="noStrike">
                <a:solidFill>
                  <a:srgbClr val="000000"/>
                </a:solidFill>
                <a:latin typeface="Bitstream Vera Sans"/>
              </a:rPr>
              <a:t>Buyer/Supplier, Shipping, Tax, Payment, Currency, Discount, and Line Item Detail. 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88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B2B Integration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68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11"/>
              </a:rPr>
              <a:t>code360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XML-Broker is middleware software that manages XML based transactions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107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12"/>
              </a:rPr>
              <a:t>Blueston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13"/>
              </a:rPr>
              <a:t> XML Suit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Enables to develop and deploy e-commerce, electronic data interchange, application integration and supply chain management applications. Bluestone XML Suite products include: XML-Server, Visual-XML, XML-Contact and XwingML.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68000"/>
              </a:lnSpc>
              <a:spcBef>
                <a:spcPts val="24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Bitstream Vera Sans"/>
                <a:hlinkClick r:id="rId14"/>
              </a:rPr>
              <a:t>webMethod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itstream Vera Sans"/>
              </a:rPr>
              <a:t>Provides companies with integrated direct links to buyers and suppliers</a:t>
            </a:r>
            <a:endParaRPr b="0" lang="en-US" sz="1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94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TD ja XML schema: mis ja miks 2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9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i DTD kui XML schema on jällegi omaette keeled: grammatika kirjapaneku keel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TD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neb otseselt SGML-st, on suhteliselt lihtne, ning veidi piiratud võimalusteg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 schem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on uus grammatikakeel, spetsiaalselt XML jaoks, üpris võimas ja suhteliselt keerukam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Ei DTD ega XML schema võimalda öelda midagi tagide ja atribuutide tähenduse koht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 nad defineerivad ainult süntaksi ehk grammatik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TD ja  XML schema on kasulikud kahel juhu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ks, et kirjutada kontrolliprogramm, mis kontrollib, kas mingi fail on õige süntaksig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ks, et programmeerija aru saaks, mis on antud keele grammatika. Tähenduse seletusi saab kirjutada näiteks kommentaaridesse.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199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76280" y="204480"/>
            <a:ext cx="8346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TD: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941040"/>
            <a:ext cx="8667720" cy="37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461880"/>
                <a:tab algn="l" pos="919080"/>
                <a:tab algn="l" pos="1376280"/>
                <a:tab algn="l" pos="1833480"/>
                <a:tab algn="l" pos="2290680"/>
                <a:tab algn="l" pos="2747880"/>
                <a:tab algn="l" pos="3205080"/>
                <a:tab algn="l" pos="3662280"/>
                <a:tab algn="l" pos="4119480"/>
                <a:tab algn="l" pos="4576680"/>
                <a:tab algn="l" pos="5033880"/>
                <a:tab algn="l" pos="5491080"/>
                <a:tab algn="l" pos="5948280"/>
                <a:tab algn="l" pos="6405480"/>
                <a:tab algn="l" pos="6862680"/>
                <a:tab algn="l" pos="7319880"/>
                <a:tab algn="l" pos="7777080"/>
                <a:tab algn="l" pos="8234280"/>
                <a:tab algn="l" pos="8691480"/>
                <a:tab algn="l" pos="91486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 DTD defineerib ühe XML süntaksiga keel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61880"/>
                <a:tab algn="l" pos="919080"/>
                <a:tab algn="l" pos="1376280"/>
                <a:tab algn="l" pos="1833480"/>
                <a:tab algn="l" pos="2290680"/>
                <a:tab algn="l" pos="2747880"/>
                <a:tab algn="l" pos="3205080"/>
                <a:tab algn="l" pos="3662280"/>
                <a:tab algn="l" pos="4119480"/>
                <a:tab algn="l" pos="4576680"/>
                <a:tab algn="l" pos="5033880"/>
                <a:tab algn="l" pos="5491080"/>
                <a:tab algn="l" pos="5948280"/>
                <a:tab algn="l" pos="6405480"/>
                <a:tab algn="l" pos="6862680"/>
                <a:tab algn="l" pos="7319880"/>
                <a:tab algn="l" pos="7777080"/>
                <a:tab algn="l" pos="8234280"/>
                <a:tab algn="l" pos="8691480"/>
                <a:tab algn="l" pos="9148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461880"/>
                <a:tab algn="l" pos="919080"/>
                <a:tab algn="l" pos="1376280"/>
                <a:tab algn="l" pos="1833480"/>
                <a:tab algn="l" pos="2290680"/>
                <a:tab algn="l" pos="2747880"/>
                <a:tab algn="l" pos="3205080"/>
                <a:tab algn="l" pos="3662280"/>
                <a:tab algn="l" pos="4119480"/>
                <a:tab algn="l" pos="4576680"/>
                <a:tab algn="l" pos="5033880"/>
                <a:tab algn="l" pos="5491080"/>
                <a:tab algn="l" pos="5948280"/>
                <a:tab algn="l" pos="6405480"/>
                <a:tab algn="l" pos="6862680"/>
                <a:tab algn="l" pos="7319880"/>
                <a:tab algn="l" pos="7777080"/>
                <a:tab algn="l" pos="8234280"/>
                <a:tab algn="l" pos="8691480"/>
                <a:tab algn="l" pos="91486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&lt;!ELEMENT A   (B,C*)&gt;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Element A on konteiner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461880"/>
                <a:tab algn="l" pos="919080"/>
                <a:tab algn="l" pos="1376280"/>
                <a:tab algn="l" pos="1833480"/>
                <a:tab algn="l" pos="2290680"/>
                <a:tab algn="l" pos="2747880"/>
                <a:tab algn="l" pos="3205080"/>
                <a:tab algn="l" pos="3662280"/>
                <a:tab algn="l" pos="4119480"/>
                <a:tab algn="l" pos="4576680"/>
                <a:tab algn="l" pos="5033880"/>
                <a:tab algn="l" pos="5491080"/>
                <a:tab algn="l" pos="5948280"/>
                <a:tab algn="l" pos="6405480"/>
                <a:tab algn="l" pos="6862680"/>
                <a:tab algn="l" pos="7319880"/>
                <a:tab algn="l" pos="7777080"/>
                <a:tab algn="l" pos="8234280"/>
                <a:tab algn="l" pos="8691480"/>
                <a:tab algn="l" pos="9148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sisaldab ühte elementi B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461880"/>
                <a:tab algn="l" pos="919080"/>
                <a:tab algn="l" pos="1376280"/>
                <a:tab algn="l" pos="1833480"/>
                <a:tab algn="l" pos="2290680"/>
                <a:tab algn="l" pos="2747880"/>
                <a:tab algn="l" pos="3205080"/>
                <a:tab algn="l" pos="3662280"/>
                <a:tab algn="l" pos="4119480"/>
                <a:tab algn="l" pos="4576680"/>
                <a:tab algn="l" pos="5033880"/>
                <a:tab algn="l" pos="5491080"/>
                <a:tab algn="l" pos="5948280"/>
                <a:tab algn="l" pos="6405480"/>
                <a:tab algn="l" pos="6862680"/>
                <a:tab algn="l" pos="7319880"/>
                <a:tab algn="l" pos="7777080"/>
                <a:tab algn="l" pos="8234280"/>
                <a:tab algn="l" pos="8691480"/>
                <a:tab algn="l" pos="914868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lle järel tuleb suvaline hulk C-si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61880"/>
                <a:tab algn="l" pos="919080"/>
                <a:tab algn="l" pos="1376280"/>
                <a:tab algn="l" pos="1833480"/>
                <a:tab algn="l" pos="2290680"/>
                <a:tab algn="l" pos="2747880"/>
                <a:tab algn="l" pos="3205080"/>
                <a:tab algn="l" pos="3662280"/>
                <a:tab algn="l" pos="4119480"/>
                <a:tab algn="l" pos="4576680"/>
                <a:tab algn="l" pos="5033880"/>
                <a:tab algn="l" pos="5491080"/>
                <a:tab algn="l" pos="5948280"/>
                <a:tab algn="l" pos="6405480"/>
                <a:tab algn="l" pos="6862680"/>
                <a:tab algn="l" pos="7319880"/>
                <a:tab algn="l" pos="7777080"/>
                <a:tab algn="l" pos="8234280"/>
                <a:tab algn="l" pos="8691480"/>
                <a:tab algn="l" pos="91486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&lt;!ELEMENT B   (#PCDATA)&gt;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 B sisaldab tekstiandme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61880"/>
                <a:tab algn="l" pos="919080"/>
                <a:tab algn="l" pos="1376280"/>
                <a:tab algn="l" pos="1833480"/>
                <a:tab algn="l" pos="2290680"/>
                <a:tab algn="l" pos="2747880"/>
                <a:tab algn="l" pos="3205080"/>
                <a:tab algn="l" pos="3662280"/>
                <a:tab algn="l" pos="4119480"/>
                <a:tab algn="l" pos="4576680"/>
                <a:tab algn="l" pos="5033880"/>
                <a:tab algn="l" pos="5491080"/>
                <a:tab algn="l" pos="5948280"/>
                <a:tab algn="l" pos="6405480"/>
                <a:tab algn="l" pos="6862680"/>
                <a:tab algn="l" pos="7319880"/>
                <a:tab algn="l" pos="7777080"/>
                <a:tab algn="l" pos="8234280"/>
                <a:tab algn="l" pos="8691480"/>
                <a:tab algn="l" pos="91486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&lt;!ELEMENT C   (#PCDATA)&gt;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 C sisaldab tekstiandme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61880"/>
                <a:tab algn="l" pos="919080"/>
                <a:tab algn="l" pos="1376280"/>
                <a:tab algn="l" pos="1833480"/>
                <a:tab algn="l" pos="2290680"/>
                <a:tab algn="l" pos="2747880"/>
                <a:tab algn="l" pos="3205080"/>
                <a:tab algn="l" pos="3662280"/>
                <a:tab algn="l" pos="4119480"/>
                <a:tab algn="l" pos="4576680"/>
                <a:tab algn="l" pos="5033880"/>
                <a:tab algn="l" pos="5491080"/>
                <a:tab algn="l" pos="5948280"/>
                <a:tab algn="l" pos="6405480"/>
                <a:tab algn="l" pos="6862680"/>
                <a:tab algn="l" pos="7319880"/>
                <a:tab algn="l" pos="7777080"/>
                <a:tab algn="l" pos="8234280"/>
                <a:tab algn="l" pos="8691480"/>
                <a:tab algn="l" pos="91486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76280" y="3614760"/>
            <a:ext cx="2182680" cy="2233440"/>
            <a:chOff x="476280" y="3614760"/>
            <a:chExt cx="2182680" cy="2233440"/>
          </a:xfrm>
        </p:grpSpPr>
        <p:sp>
          <p:nvSpPr>
            <p:cNvPr id="204" name=""/>
            <p:cNvSpPr/>
            <p:nvPr/>
          </p:nvSpPr>
          <p:spPr>
            <a:xfrm>
              <a:off x="476280" y="3614760"/>
              <a:ext cx="2182680" cy="2233440"/>
            </a:xfrm>
            <a:custGeom>
              <a:avLst/>
              <a:gdLst>
                <a:gd name="textAreaLeft" fmla="*/ 360 w 2182680"/>
                <a:gd name="textAreaRight" fmla="*/ 2182320 w 2182680"/>
                <a:gd name="textAreaTop" fmla="*/ 360 h 2233440"/>
                <a:gd name="textAreaBottom" fmla="*/ 2233080 h 2233440"/>
              </a:gdLst>
              <a:ahLst/>
              <a:rect l="textAreaLeft" t="textAreaTop" r="textAreaRight" b="textAreaBottom"/>
              <a:pathLst>
                <a:path w="21600" h="22102">
                  <a:moveTo>
                    <a:pt x="15" y="0"/>
                  </a:moveTo>
                  <a:arcTo wR="15" hR="15" stAng="16200000" swAng="-5400000"/>
                  <a:lnTo>
                    <a:pt x="0" y="22087"/>
                  </a:lnTo>
                  <a:arcTo wR="15" hR="15" stAng="10800000" swAng="-5400000"/>
                  <a:lnTo>
                    <a:pt x="21585" y="22102"/>
                  </a:lnTo>
                  <a:arcTo wR="15" hR="15" stAng="5400000" swAng="-5400000"/>
                  <a:lnTo>
                    <a:pt x="21600" y="15"/>
                  </a:lnTo>
                  <a:arcTo wR="15" hR="1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720" y="3614760"/>
              <a:ext cx="2017800" cy="19234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  <a:ea typeface="Osaka"/>
                </a:rPr>
                <a:t>&lt;A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  <a:ea typeface="Osaka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  <a:ea typeface="Osaka"/>
                </a:rPr>
                <a:t>&lt;B&gt;foo&lt;/B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  <a:ea typeface="Osaka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  <a:ea typeface="Osaka"/>
                </a:rPr>
                <a:t>&lt;C&gt;bar&lt;/C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  <a:ea typeface="Osaka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  <a:ea typeface="Osaka"/>
                </a:rPr>
                <a:t>&lt;C&gt;lab&lt;/C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  <a:ea typeface="Osaka"/>
                </a:rPr>
                <a:t>&lt;/A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475080" y="3781440"/>
            <a:ext cx="1915920" cy="2562840"/>
            <a:chOff x="3475080" y="3781440"/>
            <a:chExt cx="1915920" cy="2562840"/>
          </a:xfrm>
        </p:grpSpPr>
        <p:grpSp>
          <p:nvGrpSpPr>
            <p:cNvPr id="207" name=""/>
            <p:cNvGrpSpPr/>
            <p:nvPr/>
          </p:nvGrpSpPr>
          <p:grpSpPr>
            <a:xfrm>
              <a:off x="3990960" y="4762440"/>
              <a:ext cx="936720" cy="549360"/>
              <a:chOff x="3990960" y="4762440"/>
              <a:chExt cx="936720" cy="549360"/>
            </a:xfrm>
          </p:grpSpPr>
          <p:sp>
            <p:nvSpPr>
              <p:cNvPr id="208" name=""/>
              <p:cNvSpPr/>
              <p:nvPr/>
            </p:nvSpPr>
            <p:spPr>
              <a:xfrm>
                <a:off x="3990960" y="4762440"/>
                <a:ext cx="936720" cy="549360"/>
              </a:xfrm>
              <a:prstGeom prst="roundRect">
                <a:avLst>
                  <a:gd name="adj" fmla="val 28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90960" y="4762440"/>
                <a:ext cx="9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C:"bar"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3475080" y="3781440"/>
              <a:ext cx="1915920" cy="2562840"/>
              <a:chOff x="3475080" y="3781440"/>
              <a:chExt cx="1915920" cy="2562840"/>
            </a:xfrm>
          </p:grpSpPr>
          <p:sp>
            <p:nvSpPr>
              <p:cNvPr id="211" name=""/>
              <p:cNvSpPr/>
              <p:nvPr/>
            </p:nvSpPr>
            <p:spPr>
              <a:xfrm>
                <a:off x="3475080" y="3781440"/>
                <a:ext cx="1915920" cy="2185920"/>
              </a:xfrm>
              <a:custGeom>
                <a:avLst/>
                <a:gdLst>
                  <a:gd name="textAreaLeft" fmla="*/ 360 w 1915920"/>
                  <a:gd name="textAreaRight" fmla="*/ 1915560 w 1915920"/>
                  <a:gd name="textAreaTop" fmla="*/ 360 h 2185920"/>
                  <a:gd name="textAreaBottom" fmla="*/ 2185560 h 2185920"/>
                </a:gdLst>
                <a:ahLst/>
                <a:rect l="textAreaLeft" t="textAreaTop" r="textAreaRight" b="textAreaBottom"/>
                <a:pathLst>
                  <a:path w="21600" h="24643">
                    <a:moveTo>
                      <a:pt x="17" y="0"/>
                    </a:moveTo>
                    <a:arcTo wR="17" hR="17" stAng="16200000" swAng="-5400000"/>
                    <a:lnTo>
                      <a:pt x="0" y="24626"/>
                    </a:lnTo>
                    <a:arcTo wR="17" hR="17" stAng="10800000" swAng="-5400000"/>
                    <a:lnTo>
                      <a:pt x="21583" y="24643"/>
                    </a:lnTo>
                    <a:arcTo wR="17" hR="17" stAng="5400000" swAng="-5400000"/>
                    <a:lnTo>
                      <a:pt x="21600" y="17"/>
                    </a:lnTo>
                    <a:arcTo wR="17" hR="17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75080" y="3781440"/>
                <a:ext cx="191592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00"/>
                    </a:solidFill>
                    <a:latin typeface="Tahoma"/>
                    <a:ea typeface="Osaka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A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989520" y="4081320"/>
              <a:ext cx="911160" cy="642600"/>
              <a:chOff x="3989520" y="4081320"/>
              <a:chExt cx="911160" cy="642600"/>
            </a:xfrm>
          </p:grpSpPr>
          <p:sp>
            <p:nvSpPr>
              <p:cNvPr id="214" name=""/>
              <p:cNvSpPr/>
              <p:nvPr/>
            </p:nvSpPr>
            <p:spPr>
              <a:xfrm>
                <a:off x="3989520" y="4081320"/>
                <a:ext cx="911160" cy="551160"/>
              </a:xfrm>
              <a:prstGeom prst="roundRect">
                <a:avLst>
                  <a:gd name="adj" fmla="val 28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989520" y="4081320"/>
                <a:ext cx="911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B:"foo"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997440" y="5396040"/>
              <a:ext cx="936360" cy="549000"/>
              <a:chOff x="3997440" y="5396040"/>
              <a:chExt cx="936360" cy="549000"/>
            </a:xfrm>
          </p:grpSpPr>
          <p:sp>
            <p:nvSpPr>
              <p:cNvPr id="217" name=""/>
              <p:cNvSpPr/>
              <p:nvPr/>
            </p:nvSpPr>
            <p:spPr>
              <a:xfrm>
                <a:off x="3997440" y="5396040"/>
                <a:ext cx="936360" cy="549000"/>
              </a:xfrm>
              <a:prstGeom prst="roundRect">
                <a:avLst>
                  <a:gd name="adj" fmla="val 28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97440" y="5396040"/>
                <a:ext cx="93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C:"lab"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"/>
          <p:cNvGrpSpPr/>
          <p:nvPr/>
        </p:nvGrpSpPr>
        <p:grpSpPr>
          <a:xfrm>
            <a:off x="5802480" y="3760920"/>
            <a:ext cx="2841480" cy="2257200"/>
            <a:chOff x="5802480" y="3760920"/>
            <a:chExt cx="2841480" cy="2257200"/>
          </a:xfrm>
        </p:grpSpPr>
        <p:sp>
          <p:nvSpPr>
            <p:cNvPr id="220" name=""/>
            <p:cNvSpPr/>
            <p:nvPr/>
          </p:nvSpPr>
          <p:spPr>
            <a:xfrm>
              <a:off x="7089840" y="376092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3040" y="470052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37280" y="47260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5802480" y="5614920"/>
              <a:ext cx="793440" cy="378000"/>
              <a:chOff x="5802480" y="5614920"/>
              <a:chExt cx="793440" cy="378000"/>
            </a:xfrm>
          </p:grpSpPr>
          <p:sp>
            <p:nvSpPr>
              <p:cNvPr id="224" name=""/>
              <p:cNvSpPr/>
              <p:nvPr/>
            </p:nvSpPr>
            <p:spPr>
              <a:xfrm>
                <a:off x="5802480" y="5614920"/>
                <a:ext cx="793440" cy="3780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38840" y="5614920"/>
                <a:ext cx="723960" cy="36900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"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foo"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6788160" y="5635800"/>
              <a:ext cx="809640" cy="377640"/>
              <a:chOff x="6788160" y="5635800"/>
              <a:chExt cx="809640" cy="377640"/>
            </a:xfrm>
          </p:grpSpPr>
          <p:sp>
            <p:nvSpPr>
              <p:cNvPr id="227" name=""/>
              <p:cNvSpPr/>
              <p:nvPr/>
            </p:nvSpPr>
            <p:spPr>
              <a:xfrm>
                <a:off x="6788160" y="5635800"/>
                <a:ext cx="809640" cy="3776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827040" y="5635800"/>
                <a:ext cx="730080" cy="3690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"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bar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7877160" y="5640480"/>
              <a:ext cx="766800" cy="377640"/>
              <a:chOff x="7877160" y="5640480"/>
              <a:chExt cx="766800" cy="377640"/>
            </a:xfrm>
          </p:grpSpPr>
          <p:sp>
            <p:nvSpPr>
              <p:cNvPr id="230" name=""/>
              <p:cNvSpPr/>
              <p:nvPr/>
            </p:nvSpPr>
            <p:spPr>
              <a:xfrm>
                <a:off x="7877160" y="5640480"/>
                <a:ext cx="766800" cy="3776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913160" y="5640480"/>
                <a:ext cx="694800" cy="36900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"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  <a:ea typeface="Osaka"/>
                  </a:rPr>
                  <a:t>lab"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8089920" y="47052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342120" y="4146480"/>
              <a:ext cx="804960" cy="59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09000" y="4197240"/>
              <a:ext cx="1440" cy="59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46880" y="4146480"/>
              <a:ext cx="811440" cy="6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5060880"/>
              <a:ext cx="1440" cy="49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65800" y="5095800"/>
              <a:ext cx="1800" cy="49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47240" y="5102280"/>
              <a:ext cx="1440" cy="49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82480" y="488520"/>
            <a:ext cx="7759800" cy="297000"/>
            <a:chOff x="582480" y="488520"/>
            <a:chExt cx="7759800" cy="297000"/>
          </a:xfrm>
        </p:grpSpPr>
        <p:sp>
          <p:nvSpPr>
            <p:cNvPr id="240" name=""/>
            <p:cNvSpPr/>
            <p:nvPr/>
          </p:nvSpPr>
          <p:spPr>
            <a:xfrm>
              <a:off x="582480" y="77796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8340840" y="48852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tagid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3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gal tagil peab olema sulgev t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fail sisuga  “&lt;koer&gt; Pontu” ei ole korrekt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gid ei tohi minna rist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sisemine tag peab ka seespool sulguma)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&gt;&lt;kass&gt;Miisu&lt;/koer&gt;&lt;/kass&gt;   ei ole korrektne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dmeteksti “vahele” võib panna tagidega element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irjeldus&gt;Suur &lt;b&gt;sinine&lt;/b&gt; auto&lt;/kirjeldus&gt;   on O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andmetekstil on nö vaikimisi, nähtamatud CDATA tagid ümber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 “ ja “auto” on näites eraldi andmetekstid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61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TD grammatikakeele omadu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9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amine idee: rekursiivsed tüübi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(konteinerid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A (B|C)&gt;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“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võib sisaldada B-d..."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B (A|C)&gt;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"... mis võib sisaldada A-d"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C (#PCDATA)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õrgad tüübid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A     ANY&gt;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"A võib sisaldada midaiganes"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Kontekstivab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TD ei tee vahet “publisher”-del eri kontekstides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647640" indent="-216000">
              <a:lnSpc>
                <a:spcPct val="97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journal&gt; &lt;publisher&gt;... &lt;/publisher&gt; &lt;/journal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647640" indent="-216000">
              <a:lnSpc>
                <a:spcPct val="97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website&gt; &lt;publisher&gt; ... &lt;/publisher&gt; &lt;/websit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6476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i saa defineerida tekstiandmete tüüp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647640" indent="-216000">
              <a:lnSpc>
                <a:spcPct val="97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saa näiteks öelda, et tag C sees peab olema arv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DTD süntaks ise ei ole “normaalne XML”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245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TD näide eestist: PKK infovahe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138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?xml version="1.0" encoding="ISO-8859-1"?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  Dokumendi juurelement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Vending-Message (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ice_req | Price_req_resp |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uthorization_report | Dispense_report |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rRespons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Versioon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ATTLIST Vending-Messag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ersion CDATA #FIXED '0.9'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okumendis sisalduvad sõnum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=============================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Hinnapäring kaupmehele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Price_req (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rchant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t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nsaction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ustomer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Vastus sõnumile Price_req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Price_req_resp (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rchant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nsaction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oun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ice_req_resp atribuu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pcode - vastuskoo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 - O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900 - Vig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ATTLIST Price_req_res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pcode (000|900) #REQUIR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Tehingukinnitus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Authorization_report (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rchant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nsaction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ount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imestamp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2520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250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Näide jätku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7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  Dokumendis sisalduvad sõnumid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Hinnapäring kaupmehele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Price_req (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rchant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duct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nsaction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ustomer?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Vastus sõnumile Price_req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Price_req_resp (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rchant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nsaction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oun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255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TD näide jätku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7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Price_req_resp atribuudi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pcode - vastuskoo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000 - O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900 - Vig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ATTLIST Price_req_res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spcode (000|900) #REQUIR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Tehingukinnitus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Authorization_report (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rchant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ransaction_id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mount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imestamp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260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DTD näite lõpp (vahepealne puudu)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Isiku perekonnanimi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last_nam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#PCDATA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Isiku telefoninumber rahvusvahelisel kujul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phon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#PCDATA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 Isiku postiaadress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postal_addres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#PCDATA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 Isiku käsutuses oleva m-kommertsi RFID tagi number 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rfid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#PCDATA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--  Keelekood vastavalt ISO 639-2/T standardile (n: est, lav, ru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-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!ELEMENT languag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#PCDATA)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265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schema ja muu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8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7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oovitatakse kasutada DTD asemel: uuem ja võimsam keel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kub võimalusi, mida DTD ei paku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ur hulk andmetüüp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ja defineeritud tüübid, alam/ülemtüübi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ardinality constraints”: arvulised piirangu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schema keel ise on ka “normaalne XML”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olemas veel mitmeid XML grammatikakeel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RELAX (REgular Language description for XML), SOX (Schema for Object-Oriented XML), Schematron, ..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tenatiivne variant grammatika defineerimiseks: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ame mõnda muud grammatika/andmekirjelduskeelt (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E)ER, UML, ORM, OO mudelid, ...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ja paneme nad kirja XML süntaksiga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>
              <a:lnSpc>
                <a:spcPct val="97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"/>
              <a:tabLst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. UML ja UXF (UML eXchange Format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270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schema jupi nä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&lt;xsd:complexType name="Order"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&lt;xsd:sequence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&lt;xsd:element name="shipTo"  type="USAddress"/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&lt;xsd:element name="billTo”  type="USAddress"/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&lt;xsd:element ref="comment" minOccurs="0"/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&lt;xsd:element name="items" type="Items"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&lt;xsd:attribute  name="orderDate” type="xsd:date"/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&lt;/xsd:complexType&gt;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122400"/>
                <a:tab algn="l" pos="579600"/>
                <a:tab algn="l" pos="1036800"/>
                <a:tab algn="l" pos="1494000"/>
                <a:tab algn="l" pos="1951200"/>
                <a:tab algn="l" pos="2408400"/>
                <a:tab algn="l" pos="2865600"/>
                <a:tab algn="l" pos="3322800"/>
                <a:tab algn="l" pos="3780000"/>
                <a:tab algn="l" pos="4237200"/>
                <a:tab algn="l" pos="4694400"/>
                <a:tab algn="l" pos="51516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275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tagid 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63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 failil peab olema täpselt üks nn juurtag (root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ine kaherealine fail on ebakorrektn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&gt;Pontu&lt;/koer&gt;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&gt;Pauka&lt;/ko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ine fail aga on korrektn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a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&gt;Pontu&lt;/koer&gt;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&gt;Pauka&lt;/ko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koera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66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tagid 3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gi võib kasutada suvaliste laste ja atribuutidega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rrektse, kuid rumala struktuuriga XMLi 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 vanus=”100”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 nimi=”Pontu”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&gt;12&lt;/ko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&gt;22&lt;/ko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ko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ko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71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järjekord 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60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lementide järjekord on  XML tekstis oluline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aljude rakenduste jaoks järjekord ei lo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seisv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xml infoset”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ndardi jaoks atribuutide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ärjekord ei ole oluli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76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11280" y="1441440"/>
            <a:ext cx="3944880" cy="3919680"/>
          </a:xfrm>
          <a:prstGeom prst="roundRect">
            <a:avLst>
              <a:gd name="adj" fmla="val 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000" y="1576440"/>
            <a:ext cx="5302800" cy="3435120"/>
          </a:xfrm>
          <a:prstGeom prst="roundRect">
            <a:avLst>
              <a:gd name="adj" fmla="val 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isik&gt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nimi&gt;Tanel&lt;/nim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nimi&gt;Jaan&lt;/nimi&gt;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/isik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  teine asi, k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isik&gt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nimi&gt;Jaan&lt;/nimi&gt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nimi&gt;Tanel&lt;/nimi&gt;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/isik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57360" y="1685880"/>
            <a:ext cx="4498200" cy="3118320"/>
          </a:xfrm>
          <a:prstGeom prst="roundRect">
            <a:avLst>
              <a:gd name="adj" fmla="val 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isik eesn=”Tanel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eren=”Tammet”/&gt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  teine asi, k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isik peren=”Tamme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esn=”Tanel”/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468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731880"/>
                <a:tab algn="l" pos="1189080"/>
                <a:tab algn="l" pos="1646280"/>
                <a:tab algn="l" pos="2103480"/>
                <a:tab algn="l" pos="2560680"/>
                <a:tab algn="l" pos="3017880"/>
                <a:tab algn="l" pos="3475080"/>
                <a:tab algn="l" pos="3932280"/>
                <a:tab algn="l" pos="4389480"/>
                <a:tab algn="l" pos="4846680"/>
                <a:tab algn="l" pos="5303880"/>
                <a:tab algn="l" pos="5761080"/>
                <a:tab algn="l" pos="6218280"/>
                <a:tab algn="l" pos="6675480"/>
                <a:tab algn="l" pos="7132680"/>
                <a:tab algn="l" pos="7589880"/>
                <a:tab algn="l" pos="8047080"/>
                <a:tab algn="l" pos="8504280"/>
                <a:tab algn="l" pos="8961480"/>
                <a:tab algn="l" pos="9418680"/>
                <a:tab algn="l" pos="987588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99160" y="1405080"/>
            <a:ext cx="3944880" cy="3919320"/>
          </a:xfrm>
          <a:prstGeom prst="roundRect">
            <a:avLst>
              <a:gd name="adj" fmla="val 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atribuud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tribuutidel peab olema väärtus kas jutumärkide “ või apostroofide ' vah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rrektne on:      &lt;hind valuuta=”EEK”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rrektne on:      &lt;hind valuuta='EEK'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korrektne:  &lt;hind valuuta=EEK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ole korrektne:  &lt;hind valuuta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Jutumärkide sees võib olla apostroofe ja vastupid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orrektsed on ka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isik nimi=”Jaan 'Superman'  Raud”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isik nimi='Jaan “Superman”  Raud'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B! Praktikas on soovitav kasutada jutumärke, mitte apostroof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85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tähed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gides ja atribuutides on suured ja väikesed tähed erinevad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oer&gt;Pontu&lt;/koer&gt; on teine asi, kui &lt;Koer&gt;Pontu&lt;/Ko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ing &lt;KOER&gt;Pontu&lt;/koer&gt; on ebakorrekt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gi või atribuudi nim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b algama tähestikutähega (a,b,...,Y,Z) või tähega _ või 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tohi alata tekstiga xml, Xml, XML j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hib sisaldada tähestikutähti, numbreid, tähti _ ja - (miinu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i või sisalda tühikut ega enamikku kirjavahemärk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6560" indent="-2793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ib sisaldada täpitähti (NB! sellest pikemalt järgnevas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90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üntaks: tühikud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6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ühikud ja reavahed on (rangelt võttes) XML teksti osad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isik&gt;   &lt;nimi&gt;Tanel&lt;/nimi&gt;&lt;/isik&gt;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n – rangelt võttes - teine asi, ku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isik&gt;&lt;nimi&gt;Tanel&lt;/nimi&gt;&lt;/isik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on omakorda erinev, ku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isik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Tanel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isik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NB! Enamuse rakenduste jaoks tühikud/reavahed ei lo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ald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“xml infoset”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andardi jaoks tühikud/reavahed ei lo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38080" y="379080"/>
            <a:ext cx="7759800" cy="297000"/>
            <a:chOff x="838080" y="379080"/>
            <a:chExt cx="7759800" cy="297000"/>
          </a:xfrm>
        </p:grpSpPr>
        <p:sp>
          <p:nvSpPr>
            <p:cNvPr id="95" name=""/>
            <p:cNvSpPr/>
            <p:nvPr/>
          </p:nvSpPr>
          <p:spPr>
            <a:xfrm>
              <a:off x="838080" y="666720"/>
              <a:ext cx="7758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596440" y="379080"/>
              <a:ext cx="1440" cy="2970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No Slide Title</dc:title>
</cp:coreProperties>
</file>